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jpeg" ContentType="image/jpeg"/>
  <Override PartName="/ppt/media/image7.pct" ContentType="image/x-pict"/>
  <Override PartName="/ppt/media/image6.pct" ContentType="image/x-pict"/>
  <Override PartName="/ppt/media/image11.pct" ContentType="image/x-pict"/>
  <Override PartName="/ppt/media/image8.pct" ContentType="image/x-pict"/>
  <Override PartName="/ppt/media/image9.pct" ContentType="image/x-pict"/>
  <Override PartName="/ppt/media/image10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AF35-AEF9-48C5-9A95-C424225A5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8EB2-D0E7-4AFF-BEE5-13187D6A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F06F-3E5C-43E3-91BD-A852B3880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883B-0E95-4A1B-A8A3-D82CC9AD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1070-9590-4082-88D4-CB1B323A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266F-7019-4840-BCD7-F7F76DD0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3F82-4169-477C-AD5B-E4B3D7BE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9AE0-0045-4299-8820-EE9A98EC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F2A1-7D62-4781-A997-AAA72446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82F1-434E-4DA6-A31C-A48E85A5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4470-4751-4D42-AF81-D79365AD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B6BC-0B80-4B97-BBEB-ED8C30EF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0AFB-4541-4042-816F-0B612007A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eb.njit.edu/~kevin/rgb.txt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ass Investi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280" y="4191120"/>
            <a:ext cx="3505320" cy="2225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601640" cy="2209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38080" y="228600"/>
            <a:ext cx="1730520" cy="2209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410080" y="4114800"/>
            <a:ext cx="304812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ass Col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676520"/>
            <a:ext cx="80769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 the glass shards and determine the color of the pieces, carefully distinguish if there is only 1 sample of glass or more than 1.  Note in your journal the color name as listed at  RGB color mapping site: </a:t>
            </a:r>
            <a:r>
              <a:rPr b="0" lang="en-US" sz="1300" spc="-1" strike="noStrike" u="sng">
                <a:solidFill>
                  <a:srgbClr val="009999"/>
                </a:solidFill>
                <a:uFillTx/>
                <a:latin typeface="Lucida Grande"/>
                <a:hlinkClick r:id="rId1"/>
              </a:rPr>
              <a:t>http://web.njit.edu/~kevin/rgb.txt.html</a:t>
            </a: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he color to broken glass at the crime scene to determine of there is a match.  Be sure to not in your journal positive or negative mat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are several types of Glass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might be found in a Crime Sce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2133360"/>
            <a:ext cx="4724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exiglas  (Actually plast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dow G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andescent light bul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orescent light bul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ered g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exig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7760" y="3886200"/>
            <a:ext cx="42670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racter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ible (be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Brittle, does not sh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many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2535480" cy="3352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638680" y="1219320"/>
            <a:ext cx="3505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in picture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ment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ulp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bby and toy pie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dow G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286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cture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3352680"/>
            <a:ext cx="3124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highly Colo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reflective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ttle, sh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um 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952880" y="1371600"/>
            <a:ext cx="381024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rr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91120" y="1676160"/>
            <a:ext cx="4572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window g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ttle, shatter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 coated 1 side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ctures along sharp ed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reflective of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um den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80988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ght Bul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andescent Bu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ar or opaque color in the g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419112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400800" y="43434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105520" y="1752480"/>
            <a:ext cx="33526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orescent Bu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be sha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 Coated on inside not in the g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 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mpered G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Den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not fracture or form sharp ed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tters into small pie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48320" y="1752480"/>
            <a:ext cx="365760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zing the G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1447920"/>
            <a:ext cx="68580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on examinations made with glass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Density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o Test density, the usual method of determining mass, then volume by water displacement is used to calculate density D= m/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Colo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amples are visually examined and their color is compared to samples found at the crime scen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acture shap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spect pieces are examined for their shape, to determine if their fracture lines match fracture lines on Crime scene specim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388620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ass Den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Measure 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320" indent="-37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tain a sample of several pieces (shards) that will all fit into a 25 ml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duated cyl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320" indent="-37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a piece of tare paper, measure mass on triple beam 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320" indent="-37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 down mass of g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 Measure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320" indent="-37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sure out exactly 30 ml water (watch exactly where meniscus 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320" indent="-37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lt cylinder to the side and gently slide in all the glass pie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320" indent="-37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sure the amount of volume difference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320" indent="-37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 down volume of gla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320" indent="-37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: Density = mas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olu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2 all measurements more times using different pieces of glass and average the dens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15:12:13Z</dcterms:created>
  <dc:creator>Greg Neff</dc:creator>
  <dc:description/>
  <dc:language>en-US</dc:language>
  <cp:lastModifiedBy>Greg Neff</cp:lastModifiedBy>
  <dcterms:modified xsi:type="dcterms:W3CDTF">2008-03-02T15:45:51Z</dcterms:modified>
  <cp:revision>6</cp:revision>
  <dc:subject/>
  <dc:title>Glass Investigation</dc:title>
</cp:coreProperties>
</file>